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7720-5AB1-4528-B100-FAFCF8A8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F369-A3F2-4979-A902-EFCA9AD1B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 example click on grade 3 – pageflakes of voice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voicethread.com/#q.b14574.i0.k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ley Fryers Great book s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langu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792-1215-4F1C-BBCF-4EE8B5BE7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ED5-AA5F-48D9-A553-503D5866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E00-E5E8-40C1-947E-AE9364C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F1C-7E47-4E87-AB6F-A574047C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500-5790-4A8E-8DD7-C8028D7E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6846-7B17-4B85-B088-2B37BA25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E91-D9C9-4927-861C-37EC50BA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226-1A01-4FBC-B33E-547D8136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0438-7E83-44DD-9E00-B30579FA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CAA1-FEA7-4F15-B042-C5045847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0AF-D433-4AD2-A051-EA550B3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C4B2-8283-461D-BDD0-93A06442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104-0D75-4751-B0DA-AE9B7F93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1B45-B607-4A0C-B972-2FA3DAD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58C3-00C8-4A3D-ADD7-AA5626E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DEB8-1994-4BDF-91DF-E336FC91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402-D0E7-4CF6-9BC9-5A517F09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8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3652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8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3652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F150-95CC-4E5F-A2E0-51AAEACF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BDD-3855-4454-80E1-09E92F09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389-4EDC-4135-8FF8-5059A85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A16-547C-49C4-B2E4-3013739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62A-D9CD-4F5D-990C-133444F4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9EB-F783-485D-9627-C5441741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9F3-23BD-45D3-B90D-02B591F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580-7F7F-4C8A-BCFE-1B77D5E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1E7-8561-4111-A420-B6F838C481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F189-F831-4A7C-80BF-6B50BCAA53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69360"/>
            <a:ext cx="81532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 Web 2.0 Too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oicethread/J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1295280"/>
            <a:ext cx="76201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of Technology &amp;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view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– start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– copies of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– settings like setting up a hot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jingbutton.jpg"/>
          <p:cNvPicPr/>
          <p:nvPr/>
        </p:nvPicPr>
        <p:blipFill>
          <a:blip r:embed="rId1"/>
          <a:stretch/>
        </p:blipFill>
        <p:spPr>
          <a:xfrm>
            <a:off x="1066680" y="1371600"/>
            <a:ext cx="21430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Content Placeholder 3" descr="jingbut2.jpg"/>
          <p:cNvPicPr/>
          <p:nvPr/>
        </p:nvPicPr>
        <p:blipFill>
          <a:blip r:embed="rId1"/>
          <a:stretch/>
        </p:blipFill>
        <p:spPr>
          <a:xfrm>
            <a:off x="2438280" y="990720"/>
            <a:ext cx="455616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685800" y="335268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rt Video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jingbut3.jpg"/>
          <p:cNvPicPr/>
          <p:nvPr/>
        </p:nvPicPr>
        <p:blipFill>
          <a:blip r:embed="rId1"/>
          <a:stretch/>
        </p:blipFill>
        <p:spPr>
          <a:xfrm>
            <a:off x="1143000" y="1219320"/>
            <a:ext cx="34052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0320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304920" y="381168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to Screencast (U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to Screencast (emb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name your screenca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creencast.com/t/IfSMfKMQf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racti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oicethre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versation build around media such as images, documents and videos.  Individuals can comment by voice, text, audio file or webcam and then share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us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for storytelling, research, individual thought, expression, teaching, assessment and much mo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oicethread4education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does it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for K-12 classroom edu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join Ed.voicethread which is secure and students can participate without e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.00 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subscription available with administrativ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tudent increments at $1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 students = $35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get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voicethread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ck on the sign in or register 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“Educator” during reg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1400" y="1676520"/>
            <a:ext cx="80928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 On Practice and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jingproject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GB free storage and 2GB bandwidth on Screenc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00084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07:08:09Z</dcterms:created>
  <dc:creator>Fac - White,Connie</dc:creator>
  <dc:description/>
  <dc:language>en-US</dc:language>
  <cp:lastModifiedBy>Connie White</cp:lastModifiedBy>
  <dcterms:modified xsi:type="dcterms:W3CDTF">2008-07-24T03:07:08Z</dcterms:modified>
  <cp:revision>29</cp:revision>
  <dc:subject/>
  <dc:title>Top Web 2.0 Tools  Voicethread/J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